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70F-C15E-4091-8D77-C4566026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58F-CFEC-4316-A354-A634FA15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D8B-97EE-4071-9057-D0FF9E62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484-DA65-4E18-8C40-3E5F24C6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42C-4DCD-4E09-8079-E7AED9DD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62C-BD11-4709-81C4-0383D65C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B50-8744-400D-A3FC-F3D3037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AB0-A720-4F62-947B-2EDA4004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B45-AAC1-486F-AD7A-83FBD190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183-2911-4178-8458-6A30954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E4E-21EE-4797-98E2-B4214B0F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7D1-FA1E-4B88-8F89-E5BEE91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2E08-C9EE-47F8-84DA-3B933B39E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Automobile Insurance Co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7315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ird-part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st-party injur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st-party propert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2280" y="1447920"/>
            <a:ext cx="73915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ird-part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dily Injury 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costs (medical expenses, lost wages, pain and suffer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y Damage 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gs (other cars and proper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are types of coverage required by law in most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33520"/>
            <a:ext cx="8991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Automobile Insurance Co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1447920"/>
            <a:ext cx="73152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st-party injur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Payments (MedP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medical and funeral expenses resulting from accidents with your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Injury Protection (P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s MedPay to include lost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nsured Mot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expenses if the at fault driver does not hav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insured Motor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expenses when the at fault driver does not have enough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533520"/>
            <a:ext cx="8991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Automobile Insurance Co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1447920"/>
            <a:ext cx="7696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st-party property co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s you for physical damage to your car, including theft, vandalism, natural dis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s for damage to your vehicle in case of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overages require you to pay a de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533520"/>
            <a:ext cx="8991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Automobile Insurance Cover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533520"/>
            <a:ext cx="8991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Deduct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447920"/>
            <a:ext cx="73915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amount per accident that you pay out of pocket before insurance starts to p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deductible amounts are usually $250, $500, and $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igher the deductible amount you pay the lower your premiums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52280" y="1523880"/>
            <a:ext cx="739152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mistake when shopping for automobile insurance is looking only at the price between two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differ from policy to policy and company to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"/>
          <p:cNvSpPr/>
          <p:nvPr/>
        </p:nvSpPr>
        <p:spPr>
          <a:xfrm>
            <a:off x="152280" y="1523880"/>
            <a:ext cx="7391520" cy="84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parts to an insuranc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Acc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1523880"/>
            <a:ext cx="7543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ces are even if you are never in an accident you will witnes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you do if you are involved in an acciden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s to take after an acc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52280" y="1523880"/>
            <a:ext cx="73915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anyone who is inj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an ethical and leg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y the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further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e accident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information with the partie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 of time, location, weather, and road condi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3880"/>
            <a:ext cx="73915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hat the accident is reported promptly to the insurance agent or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icy will guide the insured on the correct steps to take to report the 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any will guide the insured through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ing a Cla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2280" y="1600200"/>
            <a:ext cx="739152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likelihood you will be in an automobile acc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ore than 12 million motor vehicle accidents 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ical driver will have a near automobile accident one or two tim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ical driver will be in a collision of some type on average of every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shes are the leading cause of death for ages 3-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52280" y="1523880"/>
            <a:ext cx="7391520" cy="55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are liable for an ac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urance company covers the loss up to the policy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surer represents you if you are 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surer has the right to settle any legal action without your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remium may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er has the right to cancel your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losses exceed the policy provisions, the insured is responsible to cover the ex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ing a Cla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52280" y="1600200"/>
            <a:ext cx="7315200" cy="53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you do to reduce risk and lower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seat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Speed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r own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on 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962520" y="3124080"/>
            <a:ext cx="3429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Drink an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good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2280" y="1600200"/>
            <a:ext cx="739152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a minor accident can result in thousands of dollars in da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age to your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age to other cars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B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 and s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280" y="1600200"/>
            <a:ext cx="739152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in an accident how do you pay for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 Accou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Un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ri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52280" y="1600200"/>
            <a:ext cx="7391520" cy="67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utomobile Insura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to insurance policy is a contract between you and an insurance comp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pay a premium, and in exchange, the insurance company promises to pay for specific car-related financial losses during the term of the poli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I need auto in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52280" y="1447920"/>
            <a:ext cx="7391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’s the law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risks you can’t afford to t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happens if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’re involved in a crash that causes property damag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hurt yourself or someone els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r car is damaged when you’re not driving it?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by weather, vandalism or a hit-and-ru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r car is stole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r car breaks down and needs to be towe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52280" y="1600200"/>
            <a:ext cx="73152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you a risk to the insurance comp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premiums as low as possible to the insured, a screening process is completed before an insurance contract i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52280" y="1600200"/>
            <a:ext cx="73152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insurance company look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hicles, and some drivers, carry more risk tha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risks will be charged a lower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risks will be charged a higher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 Insurance: The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52280" y="1600200"/>
            <a:ext cx="731520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etermines your prem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6:59:07Z</dcterms:created>
  <dc:creator>IT Dept</dc:creator>
  <dc:description/>
  <dc:language>en-US</dc:language>
  <cp:lastModifiedBy>image</cp:lastModifiedBy>
  <dcterms:modified xsi:type="dcterms:W3CDTF">2012-04-24T14:25:31Z</dcterms:modified>
  <cp:revision>5</cp:revision>
  <dc:subject/>
  <dc:title>Slide 1</dc:title>
</cp:coreProperties>
</file>